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9A0-2D79-473C-9C23-33C2CBED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E19-A7EB-4DC7-8051-D313A521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39E-1785-43E5-B746-CA1DA7F7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172-B134-4C5C-A219-9DC08EE7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201F-37CC-4782-8553-4FF6450C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62C3-149A-4CC4-B45C-940E17EE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FAB8-FF5D-474C-AA75-8CBF744B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DAC2-13E5-4866-BB32-B56FE9BA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10D3-DC37-4915-B755-6DA63576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A93B-A544-40F8-8D8A-7AED242E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C7D2-FC8A-4CB0-9C09-61C0D4E7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584-B82E-435A-91C7-6444465B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1CA6-4AC8-40A6-AFD6-39B13F1C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2C4A-67A8-4F95-A431-F0AF2B78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2F3A-B649-427B-9D62-31387DDE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BA92-9586-4636-B0FE-337D108F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5059-7C37-4A8F-999F-69C3B5B2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00E-6F31-44CD-98BA-EB488C0E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989-1023-45EB-B8A5-20EA1CFE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831-74F6-4509-8C5E-468EC7B3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837-D9DE-42A3-9194-1D53BCFB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4AA-7824-4F4A-AF98-94F30D00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BB5-46C6-4F34-AF8E-CBE07B47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A10-A8FE-47D4-98FF-8986AD37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FF77C-191D-4502-B007-52BC1E0118B5}" type="slidenum">
              <a:rPr b="0" lang="es-E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14589C-8D08-429B-B755-3349C0DA53AB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MODALIDADES ORACIONALE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11280" y="2708280"/>
          <a:ext cx="8235360" cy="2733480"/>
        </p:xfrm>
        <a:graphic>
          <a:graphicData uri="http://schemas.openxmlformats.org/drawingml/2006/table">
            <a:tbl>
              <a:tblPr/>
              <a:tblGrid>
                <a:gridCol w="8235360"/>
              </a:tblGrid>
              <a:tr h="3520080">
                <a:tc>
                  <a:txBody>
                    <a:bodyPr lIns="90000" rIns="90000" tIns="140760" bIns="46800" anchor="t">
                      <a:noAutofit/>
                    </a:bodyPr>
                    <a:p>
                      <a:pPr algn="just">
                        <a:lnSpc>
                          <a:spcPct val="9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demos clasificar las oraciones según la modalidad, es decir, según la actitud del hablante, tanto en relación con el oyente como respecto a lo que dice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MODALIDAD: DEFINICIÓN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11280" y="1628640"/>
          <a:ext cx="8235720" cy="4653000"/>
        </p:xfrm>
        <a:graphic>
          <a:graphicData uri="http://schemas.openxmlformats.org/drawingml/2006/table">
            <a:tbl>
              <a:tblPr/>
              <a:tblGrid>
                <a:gridCol w="8235720"/>
              </a:tblGrid>
              <a:tr h="5190480">
                <a:tc>
                  <a:txBody>
                    <a:bodyPr lIns="90000" rIns="90000" tIns="140760" bIns="46800" anchor="t">
                      <a:noAutofit/>
                    </a:bodyPr>
                    <a:p>
                      <a:pPr algn="just">
                        <a:lnSpc>
                          <a:spcPct val="9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demos clasificar las oraciones según la “modalidad”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modalidad indica la actitud del hablante, tanto en relación con el oyente como respecto a lo que dice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cisamente, cuando hablamos del “modo” en los verbos (indicativo, subjuntivo, imperativo), también nos referimos a la actitud del hablante.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ón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0600" y="1447920"/>
          <a:ext cx="8453520" cy="50292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502920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Verdana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unci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afirmativa o negativa): el hablante informa sobre algo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á lloviend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t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llamada también </a:t>
                      </a:r>
                      <a:r>
                        <a:rPr b="0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esider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: el hablante expresa un deseo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jalá llovies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lam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xpresa una emoción. Por ejemplo,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¡Qué bien! ¡Gracias a Dios que llueve!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ubit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l emisor expresa duda. Por ejemplo,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Quizá llueva mañana”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l emisor realiza una pregunt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hort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xpresa orden o mandat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50000">
                          <a:srgbClr val="559426"/>
                        </a:gs>
                        <a:gs pos="100000">
                          <a:srgbClr val="27441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es de interrogativa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484280"/>
          <a:ext cx="8453520" cy="50418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504180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Verdana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direct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s la forma de preguntar más usual. Por ejemplo, 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Está lloviendo?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indirect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la pregunta se plantea dentro de una oración subordinada, dependiendo de un verbo que indica entendimiento, sentido o lengua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No sé si lloverá esta tarde”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total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 la que se responde con sí o no: por ejemplo,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“¿Has estudiado mucho?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parcial: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s la que pregunta por circunstancias: 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A qué hora llegas?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59426"/>
                        </a:gs>
                        <a:gs pos="100000">
                          <a:srgbClr val="27441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hortativa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484280"/>
          <a:ext cx="8453520" cy="48240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4824000">
                <a:tc>
                  <a:txBody>
                    <a:bodyPr lIns="90000" rIns="90000" tIns="81000" bIns="46800" anchor="t">
                      <a:noAutofit/>
                    </a:bodyPr>
                    <a:p>
                      <a:pPr marL="90360" algn="ctr">
                        <a:lnSpc>
                          <a:spcPct val="123000"/>
                        </a:lnSpc>
                        <a:spcAft>
                          <a:spcPts val="1687"/>
                        </a:spcAft>
                        <a:tabLst>
                          <a:tab algn="l" pos="0"/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resan consejo, ruego, o mandato.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indicar ruego, consejo o sugerencia podemos emplear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icional simple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térito imperfecto de indica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térito imperfecto de subjun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solamente en –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 -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. Esta última posibilidad es muy formal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ebías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habérselo dich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Te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importaría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allarte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Quisiera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edirte un favor.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Forma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Expresión de la orden o mandato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50920" y="1484280"/>
          <a:ext cx="8717040" cy="4995720"/>
        </p:xfrm>
        <a:graphic>
          <a:graphicData uri="http://schemas.openxmlformats.org/drawingml/2006/table">
            <a:tbl>
              <a:tblPr/>
              <a:tblGrid>
                <a:gridCol w="8717040"/>
              </a:tblGrid>
              <a:tr h="499572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dat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órdenes o prohibiciones) pueden tener forma afirmativa o negativ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imperativo solo tiene dos forma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en segunda persona, y solamente en afirmaciones)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t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tú) –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tad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vosotros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otras personas, o con negación, empleamos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e de subjun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ígame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3ª persona singular, usted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lo haga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segunda persona singular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iéntese a 100ºC durante 10 m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3ª singular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presión de la orden o mandato I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2060640"/>
          <a:ext cx="8309160" cy="3960360"/>
        </p:xfrm>
        <a:graphic>
          <a:graphicData uri="http://schemas.openxmlformats.org/drawingml/2006/table">
            <a:tbl>
              <a:tblPr/>
              <a:tblGrid>
                <a:gridCol w="8309160"/>
              </a:tblGrid>
              <a:tr h="396036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 posible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truir oraciones de valor imperativo con el futur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¡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rás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o que se te dice!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”, e incluso el presente: 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ú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ces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so y no se hable má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”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mbién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 puede emplear el infini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 oraciones exhortativas dirigidas a un público indeterminado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Lava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 agua fría.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No congela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después de haber descongelad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presión de la orden o mandato II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3000" y="1757520"/>
          <a:ext cx="8453160" cy="4551120"/>
        </p:xfrm>
        <a:graphic>
          <a:graphicData uri="http://schemas.openxmlformats.org/drawingml/2006/table">
            <a:tbl>
              <a:tblPr/>
              <a:tblGrid>
                <a:gridCol w="8453160"/>
              </a:tblGrid>
              <a:tr h="455112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rece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infinitivo en oraciones en situaciones coloquiales, precedido de la preposición </a:t>
                      </a:r>
                      <a:r>
                        <a:rPr b="1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¡Niños,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 dormi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!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mbién podemos emplear diversas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frasis modales de obligación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con infinitivo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ienes que lava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os plato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y que recoge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a mes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ebes hace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os deberes antes de sali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s de comportarte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ejor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9:38:06Z</dcterms:created>
  <dc:creator>Guillermo</dc:creator>
  <dc:description/>
  <dc:language>en-US</dc:language>
  <cp:lastModifiedBy>Guillermo</cp:lastModifiedBy>
  <dcterms:modified xsi:type="dcterms:W3CDTF">2014-07-19T11:54:48Z</dcterms:modified>
  <cp:revision>28</cp:revision>
  <dc:subject/>
  <dc:title>ADECUACIÓN Textos orales y escritos </dc:title>
</cp:coreProperties>
</file>